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361-FBC2-4FE6-B462-CC79CA26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802-9B65-4F56-9E4A-7A99A6A1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784-0ED8-4083-9017-33233DD5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057-D550-499B-B799-7AAA8803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64DB-B495-406F-99E3-0FE558B4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1BD4-1581-424C-BD22-41833891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0052-52C6-46A9-9170-BF478509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910D-125B-4814-B0C0-6897AFCB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D038-B243-4182-B64E-2DFC3C5C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C64E-F3E6-4D1D-A52F-974551AF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8E19-B5DE-4BD7-8FCA-5AA752EF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A58-D618-423D-B5D0-1728081C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42E0-0901-4316-9137-16CE2F0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E27E-0A07-49B4-B430-09E9CD03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4A9F-50D2-4D61-8A1A-3F1030D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46F8-1D2D-413B-B06E-9BC42188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3C05-7E1B-41C3-9B2A-E43706CD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AD1-3B4E-4553-9A5A-83F8CFF3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F2D-409F-4D7F-8B6E-78A4C910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FF3-5578-4FBA-BB4F-7ED353C7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3E8-C89C-4C3A-902B-66221FA9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770-A523-474D-AFE8-7A3F4451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F63-CCE4-429C-839E-286A0D7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263-87D2-4176-BFA7-1B7B6F6E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7BB2-5C0E-4511-8952-DA3F0151A8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34A7-BBF0-4BFD-9650-C16D429262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урение и нервная систем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ученица 9 Б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ь: познакомиться с действием табака на нервную сист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чи: изучить влияние табака на нервную 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1" descr="sigaret"/>
          <p:cNvPicPr/>
          <p:nvPr/>
        </p:nvPicPr>
        <p:blipFill>
          <a:blip r:embed="rId1"/>
          <a:stretch/>
        </p:blipFill>
        <p:spPr>
          <a:xfrm>
            <a:off x="1332000" y="3284640"/>
            <a:ext cx="6192720" cy="322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оненты табачного дыма,в частности никотин активно влияют на все нервные 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62a6551e1f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, кто курит, следует помнить, что под воздействие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икоти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оисходит сужение мозговых сосудов, а следовательно, уменьшается приток крови к нервной тка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84721"/>
          <p:cNvPicPr/>
          <p:nvPr/>
        </p:nvPicPr>
        <p:blipFill>
          <a:blip r:embed="rId1"/>
          <a:stretch/>
        </p:blipFill>
        <p:spPr>
          <a:xfrm>
            <a:off x="4140360" y="1773360"/>
            <a:ext cx="3887640" cy="3609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вязи с этим появляются частые головные боли, происходит ослабление памяти. Курение действует отрицательно на любое проявление нервной деятельности (и в первую очередь в связи с гипоксией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OpticNeuritis_1_small"/>
          <p:cNvPicPr/>
          <p:nvPr/>
        </p:nvPicPr>
        <p:blipFill>
          <a:blip r:embed="rId1"/>
          <a:stretch/>
        </p:blipFill>
        <p:spPr>
          <a:xfrm>
            <a:off x="324000" y="2133720"/>
            <a:ext cx="468144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влиянием курения могут призойти нарушения как центральной, так и периферической нервной системы. У курильщиков часто возникают воспаления нервных стволов - невриты, полиневриты, радикулиты и т.д. Особенно вредно курение людям, страдающим какими-либо нервными заболеваниями или перенесшим травму нервной системы, например контузию, сотрясение мозг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13328"/>
          <p:cNvPicPr/>
          <p:nvPr/>
        </p:nvPicPr>
        <p:blipFill>
          <a:blip r:embed="rId1"/>
          <a:stretch/>
        </p:blipFill>
        <p:spPr>
          <a:xfrm>
            <a:off x="4140360" y="1916280"/>
            <a:ext cx="5003640" cy="35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ледствие нарушения правильного течения нервных процессов человек становится раздражительным, неуживчивым, у него развивается, как говорят, "тяжёлый характер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03537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тистические данные показывают несомненную роль курения в возникновении ряда нервных расстрой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вод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 причиняет вред не только вашему здоровью, но и здоровью окружающих вас люде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елайте правильный выбор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59:29Z</dcterms:created>
  <dc:creator>Admin</dc:creator>
  <dc:description/>
  <dc:language>en-US</dc:language>
  <cp:lastModifiedBy>07100</cp:lastModifiedBy>
  <dcterms:modified xsi:type="dcterms:W3CDTF">2009-12-26T08:16:56Z</dcterms:modified>
  <cp:revision>5</cp:revision>
  <dc:subject/>
  <dc:title>Курение и нервная система</dc:title>
</cp:coreProperties>
</file>